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48B-2DEE-43AB-B3E5-FAA20985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F3B-BDBA-49E8-A40E-4C3E6E8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5BD-23F1-4F44-8694-B642F78B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4A4-2DD9-43A5-8A55-CE628BF7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F9D-F75C-4460-84D8-5F7779F1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BC2-60BF-4550-AECB-1BEECEA7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419-96AA-4EE1-AF1A-8779978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7C5-2A87-47D5-B07E-BD62C54C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60B-C0AE-4445-A239-501A9F1A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B6B-6829-49C1-8EDA-4115686D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191-9021-44A2-B8A0-CA00E993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685-97BE-43AE-ADDA-AEFC9A9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A6C-3CFF-4D39-9FB4-A1F250A4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Arial"/>
              </a:rPr>
              <a:t>ASIA DE VEST ŞI DE SUD-V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09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Geograf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VII </a:t>
            </a: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, Silviu Neguţ, Gabriela Apost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ceastă regiu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fic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 se află în partea de vest a continentului, la contactul cu Europa şi Africa. Are, în cea mai mare parte, limite marine, cele terestre fiind prezente numai în est, unde se învecinează cu Asia de Sud, şi pe o mică porţiune în nord, unde se întinde lanţul muntos Caucaz, care constituie graniţa dintre Asia şi Europa. Deşi deţine numai o şeptime din suprafaţa Asiei şi mai puţin de o zecime din populaţia acesteia, Asia de Vest şi de Sud-Vest concentrează peste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ime din ţările continentului.Totodată este regiunea din Asia cu cea mai mare varietate de populaţii: arabi, persani şi turci – care formează majoritatea, evrei, armeni, greci, azeri, georgieni ş.a. Armenii, evreii şi grecii sunt printre cele mai vechi popoare ale lum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sia de Vest şi de Sud-Vest este cea mai bogată regiune din lume în petrol şi gaze natu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 dezvoltare economică, ţările de aici au niveluri d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ansamblu, Asia de Vest şi de Sud–Vest este o regiune de platouri vechi, constând din: două peninsule, Arabia şi Asia Mică, ocupate de platouri înconjurate de munţi; Podişul Iranian, desfăşurat la est de Golful Persic; o câmpie joasă şi fertilă, Câmpia Mesopotamiei.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[…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âmpia Mesopotamiei este singura câmpie mai întinsă din Asia de Vest şi de Sud–Vest. Este foarte fertilă, datorită celor două fluvii care 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limitează: Tigru şi Eufrat. Fertilitatea ei a favorizat încă din vechime dezvoltarea unor mari civilizaţii: sumeriană, akkadiană, babilonian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comp_i"/>
          <p:cNvPicPr/>
          <p:nvPr/>
        </p:nvPicPr>
        <p:blipFill>
          <a:blip r:embed="rId1"/>
          <a:stretch/>
        </p:blipFill>
        <p:spPr>
          <a:xfrm>
            <a:off x="5638680" y="1981080"/>
            <a:ext cx="265752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2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ificarea ţărilor Asiei de Vest şi de Sud-V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Apropi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urcia, capitala: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ipru, capitala: Nico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ria, capitala: Dama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ban, capitala: Beir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srael, capitala: Ierusal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rdania, capitala: Amma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rientul Mijloci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abia Saudită, capitala: Riy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Yemen, capitala: Sa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an, capitala: Mu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miratele Arabe Unite, capita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bu Dha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Qatar, capitala: Do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Bahrain, capitala: Mana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te ţă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rmenia, capitala: Er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orgia, capitala: Tbil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562040" indent="-457200" algn="just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erbaijan,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pital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Ba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51Z</dcterms:modified>
  <cp:revision>37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